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972-D053-4889-A258-C18DB042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BBB-991E-4B63-82FB-A7513EA2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69C-BE5C-473A-BF00-5137953A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9EE-21CB-47C8-B092-B4256E4E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7C0-56B1-495F-8663-F68E42E1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2DD-D164-4D0C-86ED-42F7D25A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3C5-522F-4E31-AAAA-BF5077FB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5C4-2917-4DB7-BA4C-E7EB0880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110-DE62-467F-8AC4-36A78970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379-FA46-4AEC-B32D-9697728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B50-12E2-49B0-8A25-45475C08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FF0-FF52-45BA-9B91-2692FD26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2B48-40C7-4304-94D4-7EBE25C59DF6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69696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49720"/>
            <a:ext cx="47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bbe0e3"/>
                </a:solidFill>
                <a:latin typeface="Tahoma"/>
              </a:rPr>
              <a:t>Si 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v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  </a:t>
            </a:r>
            <a:r>
              <a:rPr b="0" lang="ro-RO" sz="2400" spc="-1" strike="noStrike">
                <a:solidFill>
                  <a:srgbClr val="bbe0e3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e demandez</a:t>
            </a:r>
            <a:r>
              <a:rPr b="0" lang="ro-RO" sz="2400" spc="-1" strike="noStrike">
                <a:solidFill>
                  <a:srgbClr val="bbe0e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 pas, </a:t>
            </a:r>
            <a:r>
              <a:rPr b="0" lang="ro-RO" sz="2400" spc="-1" strike="noStrike">
                <a:solidFill>
                  <a:srgbClr val="bbe0e3"/>
                </a:solidFill>
                <a:latin typeface="Tahoma"/>
              </a:rPr>
              <a:t> 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      </a:t>
            </a:r>
            <a:r>
              <a:rPr b="0" lang="ro-RO" sz="2400" spc="-1" strike="noStrike">
                <a:solidFill>
                  <a:srgbClr val="bbe0e3"/>
                </a:solidFill>
                <a:latin typeface="Tahoma"/>
              </a:rPr>
              <a:t>maintenant vous savez 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32360" y="2646360"/>
            <a:ext cx="4211640" cy="421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8360" y="189000"/>
            <a:ext cx="399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 vie fran</a:t>
            </a:r>
            <a:r>
              <a:rPr b="0" lang="ro-RO" sz="2400" spc="-1" strike="noStrike">
                <a:solidFill>
                  <a:srgbClr val="bbe0e3"/>
                </a:solidFill>
                <a:latin typeface="Arial"/>
              </a:rPr>
              <a:t>çaise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ves-vous dema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ur la vie en F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3a57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5640" y="54936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Berlin Sans FB"/>
              </a:rPr>
              <a:t>La nourriture dans la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773360"/>
            <a:ext cx="81723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Le petit-dejuner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Vous savez qu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es francais mangent au petit dejuner quelque chose doux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Ils mangent du croissants, des tartes, peut ils boivent une caffe ou   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     un verre  du j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our le francais les, est tres important a prennent la repas dans l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heurre fix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163368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686868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9079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lin Sans FB"/>
              </a:rPr>
              <a:t>Le deju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189000"/>
            <a:ext cx="2881080" cy="192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557360"/>
            <a:ext cx="4608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le dejuner, les francais, mangent d’abord un salle, generalment froid,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qui peut êt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foie gra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u une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sal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.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res cette ils mangent du nourriture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le salle, les francais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ne refu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t pas le v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s aiment beacoup le vin rou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les francais qui se respecte, ils ont au moins des deux types de fro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le desert, ils mangent du fruits, du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teu, de la t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950920" cy="197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380360" y="4797360"/>
            <a:ext cx="1265040" cy="188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788000" y="5229360"/>
            <a:ext cx="2233440" cy="1493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7a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47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vailler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700280"/>
            <a:ext cx="7343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francais, travaillent minimum 7 heurs par jour et maximum 10 heurs par jour. Ils ont le droit a une pause par jour de 20 minutes, si ils travaillent 6 heurs par j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213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laire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393372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uis le jour de 1 julliet 2009 le salaire minimum est de 1337.70 Euro en Brut, et 1050,63 Euro NET pour 35 d’heures travail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87640" y="5130720"/>
            <a:ext cx="3024360" cy="172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08720" y="321300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27280" y="3716280"/>
            <a:ext cx="3959280" cy="284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620640"/>
            <a:ext cx="4537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 television dans la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us savez qu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principale television dans la France est TV5 Monde. TV5 Monde est une television francophone inter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d0fe"/>
            </a:gs>
            <a:gs pos="50000">
              <a:srgbClr val="0099ff"/>
            </a:gs>
            <a:gs pos="100000">
              <a:srgbClr val="8dd0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2000" y="260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 musique dans la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341360"/>
            <a:ext cx="67690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France á de nombreux artistes de rennomeé intarnat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us avez ici certains chansons qui sont entre dans l’histoire de F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ith Piat- Non, je ne regret r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cques Brel- Ne me quitte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phie Milman- La vie en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e Dassin- Et si tu n’existais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cia Kaas- Mademoiselle chante le b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bcbcbc"/>
            </a:gs>
            <a:gs pos="100000">
              <a:srgbClr val="5f5f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333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rt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341360"/>
            <a:ext cx="8459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principale competiton sportive dans la France est le Tour de France. Est un competition de cyclisme, de renommee internationale, qui se faite en chaque anée. Le tour de France a ete organise pour la premiere fois en 19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ns la Tour de France, cyclistes doit passer pas 3.600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84360" y="3562200"/>
            <a:ext cx="4608720" cy="3295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002f46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’ecole dans la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1197000"/>
            <a:ext cx="7274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s eleves vont a l’ecole primare a 6-7 ans. L’ecole primare durent 5 ans et les eleves apprennent a lire et a ecrire. Dans l’ecole primare les eleves ont un enseignant.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’education secondaire dans la France est divises en 2 parties: Le college entre les ages 11-15 ans et le lycee entre les ages 15-18 ans. Les etudes se termine avec l’exam de </a:t>
            </a:r>
            <a:r>
              <a:rPr b="0" lang="ro-RO" sz="2400" spc="-1" strike="noStrike">
                <a:solidFill>
                  <a:srgbClr val="ffffff"/>
                </a:solidFill>
                <a:latin typeface="Calibri"/>
              </a:rPr>
              <a:t>baccalauréat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en versione francaise. 30% dentre les etudants echouent a cet ex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ous savez qu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 France les eleves ne ont pas l’autorise pour venir a l’ecole avec les telephones mo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9:04:56Z</dcterms:created>
  <dc:creator>xXennon</dc:creator>
  <dc:description/>
  <dc:language>en-US</dc:language>
  <cp:lastModifiedBy>xXennon</cp:lastModifiedBy>
  <dcterms:modified xsi:type="dcterms:W3CDTF">2012-05-08T09:16:22Z</dcterms:modified>
  <cp:revision>5</cp:revision>
  <dc:subject/>
  <dc:title>Slide 1</dc:title>
</cp:coreProperties>
</file>